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44078"/>
        <c:axId val="17529979"/>
      </c:barChart>
      <c:catAx>
        <c:axId val="71644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29979"/>
        <c:crosses val="autoZero"/>
        <c:auto val="1"/>
        <c:lblAlgn val="ctr"/>
        <c:lblOffset val="100"/>
        <c:noMultiLvlLbl val="0"/>
      </c:catAx>
      <c:valAx>
        <c:axId val="17529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44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139-DF20-40E5-B63E-651A9A45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14D0-850F-43D8-AAC0-0334330F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E81-4A2F-45E0-A832-B292BB0A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17B-CA43-4859-8CB3-337ABCE0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404B-31BE-489F-89EC-CDF60402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899-C847-40D3-9BAD-787236A7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4E03-60C6-4FB9-B95E-69AD697F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CC09-7CAD-4557-A022-F4D3E2B1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E8E-0550-4087-9527-4A3E6D07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1A79-F7C2-4D0F-870C-CBF45B84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3BE-C4CD-4292-936A-81252CD2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9F7-17ED-4568-A898-9729EC73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84EC7-D56A-4A76-80E9-E05BD363D9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