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25292"/>
        <c:axId val="42696004"/>
      </c:barChart>
      <c:catAx>
        <c:axId val="95225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6004"/>
        <c:crosses val="autoZero"/>
        <c:auto val="1"/>
        <c:lblAlgn val="ctr"/>
        <c:lblOffset val="100"/>
        <c:noMultiLvlLbl val="0"/>
      </c:catAx>
      <c:valAx>
        <c:axId val="42696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25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01A-C2CD-4F03-A091-A86B113F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DF8-EC9F-4453-813F-494367AD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E35-C58D-49BE-9423-27F6F411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7A3-30FC-449B-834F-4C8BE530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51A-820D-4D30-B757-B92CFF64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0BF-C729-4D1D-9077-8A2C541D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F0D-44EE-44FA-9D97-5D8FBEF3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72C-AD1A-4A30-B831-7086054E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3E4-12B9-48ED-8207-767B4D6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9F5-AAEC-4B55-9B0C-ABAAFA1B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014-671D-48BC-8BAD-85E27DFD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6DF-4B48-4682-8A06-DF352424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E5C10-7BB2-446A-B6B9-E6E0C9E7F7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